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7AA-0D91-44AE-9A7C-4F3F53FA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BF6-0CC9-417F-AC43-E459B14B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6C5-B187-45F4-BCA8-06E3440C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001-6896-4D11-BC2A-F2EFE5EA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5F80-AB85-48B6-A6D1-755BACC1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3AF1-2613-40EF-9271-8F2BF783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92A0-9DA7-44C6-9039-AA3F3652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B3BC-7820-4BD2-86D6-8533487F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F1A9-79BD-413B-AE3A-5F07CF39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2A2D-0E9F-4861-BE0B-8188A123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9BC8-1078-42D1-A9BB-44E2BAFE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151A-00C5-426D-A450-08E43CF5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1BDE-AC3E-4DF6-831B-A30FDA9C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EA4F-5C16-4DBC-B48C-D4334F83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5CF7-C9EE-4ABB-A0E4-03AB4F5D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741F-FEA6-46A9-940F-4FBEBC0D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ED70-24E8-4896-87FA-4B88F3E4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D88-084C-4829-9746-7DCA8531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825-D12E-4055-A931-F4924CB8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EE2-88B9-49BB-A48A-F7C24BA5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443-77AB-4BA3-A1ED-A56998A0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33B-9CE6-4F92-B6A8-7829824D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A19-165A-4901-AF5E-223B0E68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272-FB58-46E1-8474-B5BAA29E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CBF9-1777-4982-BC2B-2973DD5F8E0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8F75-C6AF-4B48-B8D7-C96ED269B58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y Persona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earning Profi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b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har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found out that the left hemisphere of my brain is less dominate than my right brain is more dominate than my left bra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y Intelligence type is Physical Awarness Intelligence that means that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 Am very coordinate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ble to develop and contro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ble to figure out how to perform a move or task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Learns best through touching or saying it alou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’s important to learn how your brain works because so you can now how to lear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can use what I have learned about the way my brain works in school. I can do this when I need hel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y learning style is tactile that means that I am Kinesthetic: I learn best by do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y learning technique is Abstract Sequential that means that I creative and imaginative, neat, and order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54:21Z</dcterms:created>
  <dc:creator>dharan albuoy</dc:creator>
  <dc:description/>
  <dc:language>en-US</dc:language>
  <cp:lastModifiedBy>dharan albuoy</cp:lastModifiedBy>
  <dcterms:modified xsi:type="dcterms:W3CDTF">2010-10-26T13:54:31Z</dcterms:modified>
  <cp:revision>4</cp:revision>
  <dc:subject/>
  <dc:title>My Personal Learning Profile by</dc:title>
</cp:coreProperties>
</file>